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FD3F-7489-40EE-9B77-C4EAE34C87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7AD1-AC45-4E2E-8C9E-32AF2CECB3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9821-EA95-4213-A3C1-6F1FAC3C3E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5C53-A667-4A08-8222-B8EEF6E1C8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3AE-4CAF-4B4E-A430-B05D7855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4EA-C8F2-43A7-88B0-58F081F3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F00-387B-4062-9271-97DAA42C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E48-13F9-4F33-BCBB-3723B72E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E6B-5D88-4B05-9913-C407F957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96E-CC9E-4ABF-943A-F89EF25F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3BD-DD32-4A15-9CEF-00798F45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B0F-4AFE-4116-BF7F-CC7F95EC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583-AB5D-409B-B423-A7022F6F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EA5-A1E9-4270-851A-DB49A268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90F-17FC-4DE0-810C-790129B7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BE0F-10DC-44DC-9F74-1BF915D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6AB0-73C0-4A0B-A592-9E658C64E17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5DED-3AFE-4630-A3B5-0A5AC55ECB6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716360" y="546588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Model transferu technologii w Politechnice Łódzkiej - rozwiązania systemowe i wizja przyszłoś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9"/>
          <p:cNvSpPr/>
          <p:nvPr/>
        </p:nvSpPr>
        <p:spPr>
          <a:xfrm>
            <a:off x="5715000" y="5143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ctt.p.lodz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10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11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0996-05A5-47E0-B4E9-45B116B929C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69" name="pole tekstowe 8"/>
          <p:cNvSpPr/>
          <p:nvPr/>
        </p:nvSpPr>
        <p:spPr>
          <a:xfrm>
            <a:off x="571680" y="121428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9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0"/>
          <p:cNvSpPr/>
          <p:nvPr/>
        </p:nvSpPr>
        <p:spPr>
          <a:xfrm>
            <a:off x="214200" y="2357280"/>
            <a:ext cx="76438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Główny cel Spółki -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mercjalizacja rozwiązań  innowacyjnych opracowanych na Politechnice Łódzki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Cel towarzyszący - doprowadzenie do bardziej efektywnego wykorzystania istniejącego w PŁ potencjału intelektualnego i badawczego dla potrzeb komercyjnej działalności na rzecz podmiotów gospodarczy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11"/>
          <p:cNvSpPr/>
          <p:nvPr/>
        </p:nvSpPr>
        <p:spPr>
          <a:xfrm>
            <a:off x="-285840" y="128592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Cel i zakres dział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12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032-EEF4-4B52-8C09-FD40B680EC7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85840" y="257184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 zapewnieniu ochrony wynalazkowi stajemy przed wyborem strategii komercjalizac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el: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Maksymalizacja zyskó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ażona ryzyki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ole tekstowe 7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8"/>
          <p:cNvSpPr/>
          <p:nvPr/>
        </p:nvSpPr>
        <p:spPr>
          <a:xfrm>
            <a:off x="240480" y="1143000"/>
            <a:ext cx="46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Model wdrożenia tech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6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rostokąt 4"/>
          <p:cNvSpPr/>
          <p:nvPr/>
        </p:nvSpPr>
        <p:spPr>
          <a:xfrm>
            <a:off x="142920" y="2000160"/>
            <a:ext cx="7429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bór metody komercjalizacji i transferu technologii uzależniony jest o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siadanej technolog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świadczenia w bran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eny kontrah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kreślenia stopnia ryzy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nników zewnętrznych, np. aktualnego stanu ry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6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ole tekstowe 7"/>
          <p:cNvSpPr/>
          <p:nvPr/>
        </p:nvSpPr>
        <p:spPr>
          <a:xfrm>
            <a:off x="240480" y="1000080"/>
            <a:ext cx="46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Model wdrożenia tech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8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E899-D799-49FA-A25E-C5A566E09ED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388080" y="2214720"/>
            <a:ext cx="8450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etap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Analiza i ocena potrzeb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echnologicznych przedsiębiorst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I etap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Pozyskanie informacji o technologiac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 rynku technolog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II etap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naliza i wybór odpowiedniej technologi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 metody transf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V etap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Negocjacje i umo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zakresie transf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 etap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Wdrożenie technolog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7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8"/>
          <p:cNvSpPr/>
          <p:nvPr/>
        </p:nvSpPr>
        <p:spPr>
          <a:xfrm>
            <a:off x="597960" y="1143000"/>
            <a:ext cx="46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Model wdrożenia tech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ole tekstowe 6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upa 129"/>
          <p:cNvGrpSpPr/>
          <p:nvPr/>
        </p:nvGrpSpPr>
        <p:grpSpPr>
          <a:xfrm>
            <a:off x="33480" y="1647720"/>
            <a:ext cx="9038880" cy="4663800"/>
            <a:chOff x="33480" y="1647720"/>
            <a:chExt cx="9038880" cy="4663800"/>
          </a:xfrm>
        </p:grpSpPr>
        <p:pic>
          <p:nvPicPr>
            <p:cNvPr id="193" name="pole tekstowe 102" descr=""/>
            <p:cNvPicPr/>
            <p:nvPr/>
          </p:nvPicPr>
          <p:blipFill>
            <a:blip r:embed="rId2"/>
            <a:stretch/>
          </p:blipFill>
          <p:spPr>
            <a:xfrm>
              <a:off x="33480" y="2291760"/>
              <a:ext cx="718560" cy="154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Grupa 126"/>
            <p:cNvGrpSpPr/>
            <p:nvPr/>
          </p:nvGrpSpPr>
          <p:grpSpPr>
            <a:xfrm>
              <a:off x="415800" y="1647720"/>
              <a:ext cx="8656560" cy="4663800"/>
              <a:chOff x="415800" y="1647720"/>
              <a:chExt cx="8656560" cy="4663800"/>
            </a:xfrm>
          </p:grpSpPr>
          <p:sp>
            <p:nvSpPr>
              <p:cNvPr id="195" name="pole tekstowe 109"/>
              <p:cNvSpPr/>
              <p:nvPr/>
            </p:nvSpPr>
            <p:spPr>
              <a:xfrm>
                <a:off x="2679120" y="3550680"/>
                <a:ext cx="10576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depozyt technolog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Prostokąt zaokrąglony 3"/>
              <p:cNvSpPr/>
              <p:nvPr/>
            </p:nvSpPr>
            <p:spPr>
              <a:xfrm>
                <a:off x="673200" y="1858680"/>
                <a:ext cx="2079000" cy="9856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f9f9f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Twórcy, zespoły nauko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Prostokąt zaokrąglony 4"/>
              <p:cNvSpPr/>
              <p:nvPr/>
            </p:nvSpPr>
            <p:spPr>
              <a:xfrm>
                <a:off x="673200" y="3355920"/>
                <a:ext cx="2079000" cy="1058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fffff"/>
                  </a:gs>
                  <a:gs pos="100000">
                    <a:srgbClr val="f0ffff"/>
                  </a:gs>
                </a:gsLst>
                <a:lin ang="16200000"/>
              </a:gradFill>
              <a:ln w="9360">
                <a:solidFill>
                  <a:srgbClr val="b6dcd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Dział Transferu Technologii PŁ – wycena technolog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Prostokąt zaokrąglony 5"/>
              <p:cNvSpPr/>
              <p:nvPr/>
            </p:nvSpPr>
            <p:spPr>
              <a:xfrm>
                <a:off x="3700800" y="3392280"/>
                <a:ext cx="1860120" cy="9856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CTT PŁ </a:t>
                </a:r>
                <a:br>
                  <a:rPr sz="1800"/>
                </a:b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Sp. z o.o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Prostokąt zaokrąglony 6"/>
              <p:cNvSpPr/>
              <p:nvPr/>
            </p:nvSpPr>
            <p:spPr>
              <a:xfrm>
                <a:off x="7020360" y="1785600"/>
                <a:ext cx="1823760" cy="876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6200000"/>
              </a:gradFill>
              <a:ln w="9360">
                <a:solidFill>
                  <a:srgbClr val="29298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Podmioty gospodarcz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Prostokąt zaokrąglony 7"/>
              <p:cNvSpPr/>
              <p:nvPr/>
            </p:nvSpPr>
            <p:spPr>
              <a:xfrm>
                <a:off x="6910920" y="4633920"/>
                <a:ext cx="1896840" cy="1058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Nowe spółk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spin off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start u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" name="Łącznik łamany 14"/>
              <p:cNvCxnSpPr/>
              <p:nvPr/>
            </p:nvCxnSpPr>
            <p:spPr>
              <a:xfrm flipH="1" flipV="1" rot="5400000">
                <a:off x="5150520" y="1521720"/>
                <a:ext cx="1424520" cy="2316240"/>
              </a:xfrm>
              <a:prstGeom prst="bentConnector2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02" name="Łącznik łamany 14"/>
              <p:cNvCxnSpPr/>
              <p:nvPr/>
            </p:nvCxnSpPr>
            <p:spPr>
              <a:xfrm flipV="1">
                <a:off x="5560920" y="2369160"/>
                <a:ext cx="1459800" cy="1315080"/>
              </a:xfrm>
              <a:prstGeom prst="bentConnector3">
                <a:avLst>
                  <a:gd name="adj1" fmla="val 23902"/>
                </a:avLst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03" name="Kształt 37"/>
              <p:cNvCxnSpPr>
                <a:stCxn id="198" idx="3"/>
                <a:endCxn id="199" idx="2"/>
              </p:cNvCxnSpPr>
              <p:nvPr/>
            </p:nvCxnSpPr>
            <p:spPr>
              <a:xfrm flipV="1">
                <a:off x="5561280" y="2661120"/>
                <a:ext cx="2371680" cy="1222920"/>
              </a:xfrm>
              <a:prstGeom prst="bentConnector2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04" name="Łącznik łamany 39"/>
              <p:cNvCxnSpPr>
                <a:endCxn id="200" idx="1"/>
              </p:cNvCxnSpPr>
              <p:nvPr/>
            </p:nvCxnSpPr>
            <p:spPr>
              <a:xfrm>
                <a:off x="5560920" y="4012920"/>
                <a:ext cx="1350360" cy="1149840"/>
              </a:xfrm>
              <a:prstGeom prst="bentConnector3">
                <a:avLst>
                  <a:gd name="adj1" fmla="val 25546"/>
                </a:avLst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05" name="Kształt 42"/>
              <p:cNvCxnSpPr>
                <a:stCxn id="199" idx="3"/>
                <a:endCxn id="206" idx="2"/>
              </p:cNvCxnSpPr>
              <p:nvPr/>
            </p:nvCxnSpPr>
            <p:spPr>
              <a:xfrm flipH="1">
                <a:off x="5050080" y="2223360"/>
                <a:ext cx="3794400" cy="2446920"/>
              </a:xfrm>
              <a:prstGeom prst="bentConnector4">
                <a:avLst>
                  <a:gd name="adj1" fmla="val -6015"/>
                  <a:gd name="adj2" fmla="val 164891"/>
                </a:avLst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07" name="Łącznik prosty 58"/>
              <p:cNvSpPr/>
              <p:nvPr/>
            </p:nvSpPr>
            <p:spPr>
              <a:xfrm>
                <a:off x="8807760" y="5145120"/>
                <a:ext cx="25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8" name="Łącznik łamany 63"/>
              <p:cNvCxnSpPr>
                <a:stCxn id="197" idx="1"/>
                <a:endCxn id="196" idx="1"/>
              </p:cNvCxnSpPr>
              <p:nvPr/>
            </p:nvCxnSpPr>
            <p:spPr>
              <a:xfrm rot="10800000">
                <a:off x="672480" y="2350080"/>
                <a:ext cx="2160" cy="1534320"/>
              </a:xfrm>
              <a:prstGeom prst="bentConnector3">
                <a:avLst>
                  <a:gd name="adj1" fmla="val 14380000"/>
                </a:avLst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09" name="Łącznik prosty ze strzałką 66"/>
              <p:cNvCxnSpPr>
                <a:stCxn id="197" idx="3"/>
                <a:endCxn id="198" idx="1"/>
              </p:cNvCxnSpPr>
              <p:nvPr/>
            </p:nvCxnSpPr>
            <p:spPr>
              <a:xfrm>
                <a:off x="2752200" y="3884400"/>
                <a:ext cx="9489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06" name="Prostokąt zaokrąglony 90"/>
              <p:cNvSpPr/>
              <p:nvPr/>
            </p:nvSpPr>
            <p:spPr>
              <a:xfrm>
                <a:off x="4649040" y="4414680"/>
                <a:ext cx="802440" cy="255600"/>
              </a:xfrm>
              <a:prstGeom prst="roundRect">
                <a:avLst>
                  <a:gd name="adj" fmla="val 16667"/>
                </a:avLst>
              </a:prstGeom>
              <a:solidFill>
                <a:srgbClr val="a3a3e0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Arial"/>
                  </a:rPr>
                  <a:t>Marż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" name="Kształt 95"/>
              <p:cNvCxnSpPr>
                <a:endCxn id="197" idx="2"/>
              </p:cNvCxnSpPr>
              <p:nvPr/>
            </p:nvCxnSpPr>
            <p:spPr>
              <a:xfrm flipV="1" rot="10800000">
                <a:off x="1713600" y="4377240"/>
                <a:ext cx="2607480" cy="37080"/>
              </a:xfrm>
              <a:prstGeom prst="bentConnector4">
                <a:avLst>
                  <a:gd name="adj1" fmla="val 386"/>
                  <a:gd name="adj2" fmla="val 3195098"/>
                </a:avLst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1" name="Łącznik prosty ze strzałką 99"/>
              <p:cNvCxnSpPr>
                <a:stCxn id="196" idx="2"/>
                <a:endCxn id="197" idx="0"/>
              </p:cNvCxnSpPr>
              <p:nvPr/>
            </p:nvCxnSpPr>
            <p:spPr>
              <a:xfrm flipH="1">
                <a:off x="1711440" y="2844720"/>
                <a:ext cx="2160" cy="5119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12" name="pole tekstowe 101"/>
              <p:cNvSpPr/>
              <p:nvPr/>
            </p:nvSpPr>
            <p:spPr>
              <a:xfrm>
                <a:off x="1767240" y="2880720"/>
                <a:ext cx="2115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patenty, know-how, technologie innowacyj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pole tekstowe 103"/>
              <p:cNvSpPr/>
              <p:nvPr/>
            </p:nvSpPr>
            <p:spPr>
              <a:xfrm>
                <a:off x="2168280" y="5217840"/>
                <a:ext cx="171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zwrot przychodów z transferu technolog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pole tekstowe 104"/>
              <p:cNvSpPr/>
              <p:nvPr/>
            </p:nvSpPr>
            <p:spPr>
              <a:xfrm>
                <a:off x="4795200" y="1647720"/>
                <a:ext cx="21888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aporty wartości niematerialnych i prawny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pole tekstowe 105"/>
              <p:cNvSpPr/>
              <p:nvPr/>
            </p:nvSpPr>
            <p:spPr>
              <a:xfrm rot="16200000">
                <a:off x="5224680" y="2851200"/>
                <a:ext cx="94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licenc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ole tekstowe 106"/>
              <p:cNvSpPr/>
              <p:nvPr/>
            </p:nvSpPr>
            <p:spPr>
              <a:xfrm>
                <a:off x="6400440" y="3510000"/>
                <a:ext cx="14590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usługi proinnowacyj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pole tekstowe 107"/>
              <p:cNvSpPr/>
              <p:nvPr/>
            </p:nvSpPr>
            <p:spPr>
              <a:xfrm>
                <a:off x="6035400" y="4867920"/>
                <a:ext cx="65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apor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pole tekstowe 108"/>
              <p:cNvSpPr/>
              <p:nvPr/>
            </p:nvSpPr>
            <p:spPr>
              <a:xfrm>
                <a:off x="5342400" y="5943960"/>
                <a:ext cx="310068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przychody z zysków i sprzedaży fir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upa 123"/>
          <p:cNvGrpSpPr/>
          <p:nvPr/>
        </p:nvGrpSpPr>
        <p:grpSpPr>
          <a:xfrm>
            <a:off x="154080" y="1420920"/>
            <a:ext cx="2847960" cy="5364360"/>
            <a:chOff x="154080" y="1420920"/>
            <a:chExt cx="2847960" cy="5364360"/>
          </a:xfrm>
        </p:grpSpPr>
        <p:sp>
          <p:nvSpPr>
            <p:cNvPr id="220" name="Prostokąt 110"/>
            <p:cNvSpPr/>
            <p:nvPr/>
          </p:nvSpPr>
          <p:spPr>
            <a:xfrm>
              <a:off x="158760" y="1420920"/>
              <a:ext cx="2843280" cy="5364360"/>
            </a:xfrm>
            <a:prstGeom prst="rect">
              <a:avLst/>
            </a:prstGeom>
            <a:solidFill>
              <a:srgbClr val="ffff00">
                <a:alpha val="25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pole tekstowe 113"/>
            <p:cNvSpPr/>
            <p:nvPr/>
          </p:nvSpPr>
          <p:spPr>
            <a:xfrm>
              <a:off x="154080" y="6140520"/>
              <a:ext cx="284796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arządzenie Rektora PŁ nr 4/2007 – Regulamin korzystania z  własności intelektualnej w P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upa 124"/>
          <p:cNvGrpSpPr/>
          <p:nvPr/>
        </p:nvGrpSpPr>
        <p:grpSpPr>
          <a:xfrm>
            <a:off x="3214800" y="1428840"/>
            <a:ext cx="2843280" cy="5364360"/>
            <a:chOff x="3214800" y="1428840"/>
            <a:chExt cx="2843280" cy="5364360"/>
          </a:xfrm>
        </p:grpSpPr>
        <p:sp>
          <p:nvSpPr>
            <p:cNvPr id="223" name="Prostokąt 111"/>
            <p:cNvSpPr/>
            <p:nvPr/>
          </p:nvSpPr>
          <p:spPr>
            <a:xfrm>
              <a:off x="3214800" y="1428840"/>
              <a:ext cx="2843280" cy="5364360"/>
            </a:xfrm>
            <a:prstGeom prst="rect">
              <a:avLst/>
            </a:prstGeom>
            <a:solidFill>
              <a:srgbClr val="92d050">
                <a:alpha val="25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pole tekstowe 114"/>
            <p:cNvSpPr/>
            <p:nvPr/>
          </p:nvSpPr>
          <p:spPr>
            <a:xfrm>
              <a:off x="3214800" y="6272280"/>
              <a:ext cx="2843280" cy="52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orozumienie o współpracy CTTPŁ i Politechniką Łódz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upa 125"/>
          <p:cNvGrpSpPr/>
          <p:nvPr/>
        </p:nvGrpSpPr>
        <p:grpSpPr>
          <a:xfrm>
            <a:off x="6219720" y="1420920"/>
            <a:ext cx="2843280" cy="5364000"/>
            <a:chOff x="6219720" y="1420920"/>
            <a:chExt cx="2843280" cy="5364000"/>
          </a:xfrm>
        </p:grpSpPr>
        <p:sp>
          <p:nvSpPr>
            <p:cNvPr id="226" name="Prostokąt 112"/>
            <p:cNvSpPr/>
            <p:nvPr/>
          </p:nvSpPr>
          <p:spPr>
            <a:xfrm>
              <a:off x="6219720" y="1420920"/>
              <a:ext cx="2843280" cy="5364000"/>
            </a:xfrm>
            <a:prstGeom prst="rect">
              <a:avLst/>
            </a:prstGeom>
            <a:solidFill>
              <a:srgbClr val="00b0f0">
                <a:alpha val="25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pole tekstowe 115"/>
            <p:cNvSpPr/>
            <p:nvPr/>
          </p:nvSpPr>
          <p:spPr>
            <a:xfrm>
              <a:off x="6657840" y="6404040"/>
              <a:ext cx="204480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wo gospodarc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ole tekstowe 40"/>
          <p:cNvSpPr/>
          <p:nvPr/>
        </p:nvSpPr>
        <p:spPr>
          <a:xfrm>
            <a:off x="240480" y="785880"/>
            <a:ext cx="46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Model wdrożenia tech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ole tekstowe 44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1A90-B74F-429D-B87D-0ACFA03DE86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przedaż technologii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dzielenie licencj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łożenie firmy (spin-off - firma odprysko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ole tekstowe 6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7"/>
          <p:cNvSpPr/>
          <p:nvPr/>
        </p:nvSpPr>
        <p:spPr>
          <a:xfrm>
            <a:off x="45000" y="114300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Model i możliwości wdrożenia/pozyskania tech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ole tekstowe 8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5BE7-8CDF-436C-B7BD-310E34C1A4D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ryzyko"/>
          <p:cNvPicPr/>
          <p:nvPr/>
        </p:nvPicPr>
        <p:blipFill>
          <a:blip r:embed="rId2"/>
          <a:stretch/>
        </p:blipFill>
        <p:spPr>
          <a:xfrm>
            <a:off x="214200" y="1785960"/>
            <a:ext cx="8471160" cy="41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9" name="pole tekstowe 6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ole tekstowe 7"/>
          <p:cNvSpPr/>
          <p:nvPr/>
        </p:nvSpPr>
        <p:spPr>
          <a:xfrm>
            <a:off x="321840" y="928800"/>
            <a:ext cx="66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Model i możliwości wdrożenia tech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e tekstowe 8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C8B1-53DC-4713-A751-75A148FCBFC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ole tekstowe 5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6"/>
          <p:cNvSpPr/>
          <p:nvPr/>
        </p:nvSpPr>
        <p:spPr>
          <a:xfrm>
            <a:off x="4680" y="100008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sja Centrum Transferu Technolo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90440" y="489096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awet najlepszą rzecz można poprawić”-Kiihiro Toyoda, 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historia_1"/>
          <p:cNvPicPr/>
          <p:nvPr/>
        </p:nvPicPr>
        <p:blipFill>
          <a:blip r:embed="rId2"/>
          <a:srcRect l="2314" t="4499" r="2314" b="4499"/>
          <a:stretch/>
        </p:blipFill>
        <p:spPr>
          <a:xfrm>
            <a:off x="214200" y="2071800"/>
            <a:ext cx="4451400" cy="218412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9"/>
          <p:cNvGrpSpPr/>
          <p:nvPr/>
        </p:nvGrpSpPr>
        <p:grpSpPr>
          <a:xfrm>
            <a:off x="4286160" y="4429080"/>
            <a:ext cx="3786120" cy="1947960"/>
            <a:chOff x="4286160" y="4429080"/>
            <a:chExt cx="3786120" cy="1947960"/>
          </a:xfrm>
        </p:grpSpPr>
        <p:pic>
          <p:nvPicPr>
            <p:cNvPr id="249" name="Picture 6" descr="toyota_avensis_2009_02"/>
            <p:cNvPicPr/>
            <p:nvPr/>
          </p:nvPicPr>
          <p:blipFill>
            <a:blip r:embed="rId3"/>
            <a:stretch/>
          </p:blipFill>
          <p:spPr>
            <a:xfrm>
              <a:off x="4286160" y="4429080"/>
              <a:ext cx="3786120" cy="19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7"/>
            <p:cNvSpPr/>
            <p:nvPr/>
          </p:nvSpPr>
          <p:spPr>
            <a:xfrm>
              <a:off x="4286160" y="6238440"/>
              <a:ext cx="3786120" cy="138600"/>
            </a:xfrm>
            <a:prstGeom prst="rect">
              <a:avLst/>
            </a:prstGeom>
            <a:solidFill>
              <a:srgbClr val="6543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ole tekstowe 12"/>
          <p:cNvSpPr/>
          <p:nvPr/>
        </p:nvSpPr>
        <p:spPr>
          <a:xfrm>
            <a:off x="7185600" y="6488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FE17-9225-43CA-A9CC-32DAADBD876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ole tekstowe 5"/>
          <p:cNvSpPr/>
          <p:nvPr/>
        </p:nvSpPr>
        <p:spPr>
          <a:xfrm>
            <a:off x="285840" y="1643040"/>
            <a:ext cx="8572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Zbudowanie pomostu porozumienia pomiędzy światem nauki a biznesem – przekonanie do współ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Zbudowanie pozycji wśród naukowców P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arketing innowacyjnej pozycji CTT w regionie łódzkim, w kraju i za granic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twarzanie szans biznesowych dla kadry naukowej ucze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ole tekstowe 6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ole tekstowe 7"/>
          <p:cNvSpPr/>
          <p:nvPr/>
        </p:nvSpPr>
        <p:spPr>
          <a:xfrm>
            <a:off x="435600" y="100008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Misja i Wizja  Centrum Transferu Technolog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ole tekstowe 8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61EB-0306-4CC0-A89B-40F00523A90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ole tekstowe 5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ole tekstowe 6"/>
          <p:cNvSpPr/>
          <p:nvPr/>
        </p:nvSpPr>
        <p:spPr>
          <a:xfrm>
            <a:off x="456120" y="10000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becnie realizowane projekty przez CTT P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ole tekstowe 7" descr=""/>
          <p:cNvPicPr/>
          <p:nvPr/>
        </p:nvPicPr>
        <p:blipFill>
          <a:blip r:embed="rId2"/>
          <a:stretch/>
        </p:blipFill>
        <p:spPr>
          <a:xfrm>
            <a:off x="324000" y="1987560"/>
            <a:ext cx="9015120" cy="3365640"/>
          </a:xfrm>
          <a:prstGeom prst="rect">
            <a:avLst/>
          </a:prstGeom>
          <a:ln w="0">
            <a:noFill/>
          </a:ln>
        </p:spPr>
      </p:pic>
      <p:sp>
        <p:nvSpPr>
          <p:cNvPr id="263" name="pole tekstowe 11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F8FF-A6DF-4AF6-931C-42801AD0A60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ole tekstowe 5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6"/>
          <p:cNvSpPr/>
          <p:nvPr/>
        </p:nvSpPr>
        <p:spPr>
          <a:xfrm>
            <a:off x="214200" y="1357200"/>
            <a:ext cx="778680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dza i jej możliw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laczego spółk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el i zakres działania spół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del wdrożenia technolo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sja i wizja Centrum Transferu Technologii P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alizowane projekty przez CTT P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7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24D5-F81B-47E9-8156-BB6E09BF437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ole tekstowe 6"/>
          <p:cNvSpPr/>
          <p:nvPr/>
        </p:nvSpPr>
        <p:spPr>
          <a:xfrm>
            <a:off x="285840" y="1785960"/>
            <a:ext cx="835812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rtTech – spółka spin-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chnologia nawęglania wyrobów stalowych przy obniżonym ciśnieniu wraz z metodą komputerowego projektowania parametrów warstwy nawęgla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kuteczna konkurencja na rynku światowym w grupie czterech wiodących firm produkujących urządzenia do obróbki cieplno-chemicznej – technologia chroniona patentami EP i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konomicz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krócony proces technologicz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ekologicz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ole tekstowe 7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8"/>
          <p:cNvSpPr/>
          <p:nvPr/>
        </p:nvSpPr>
        <p:spPr>
          <a:xfrm>
            <a:off x="456120" y="10000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becnie realizowane projekty przez CTT P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ole tekstowe 9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4DD-98BB-42EE-ADBA-7F17EF9FB1D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ole tekstowe 6"/>
          <p:cNvSpPr/>
          <p:nvPr/>
        </p:nvSpPr>
        <p:spPr>
          <a:xfrm>
            <a:off x="357120" y="2071800"/>
            <a:ext cx="878688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TT PŁ Sp.z o.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udowa i eksploatacja stacji geotermalnej Politechniki Łódzki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wiert badawczo-nauk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sja na odw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ole tekstowe 7"/>
          <p:cNvSpPr/>
          <p:nvPr/>
        </p:nvSpPr>
        <p:spPr>
          <a:xfrm>
            <a:off x="313200" y="85716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becnie realizowane projekty przez CTT P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ole tekstowe 8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ole tekstowe 9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5B40-83DC-4E8B-BD21-DDBC857DA30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ole tekstowe 6"/>
          <p:cNvSpPr/>
          <p:nvPr/>
        </p:nvSpPr>
        <p:spPr>
          <a:xfrm>
            <a:off x="285840" y="1928880"/>
            <a:ext cx="8501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rigendo Sp.z o.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owa Licencyjna -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ązka patentów dotyczących nowych leków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yrakowych oraz substancji wykorzystywanych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chemioterap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półpraca z Uniwersytetem Jagiellońskim jako współwłaścicielem wiązki pat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313200" y="85716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becnie realizowane projekty przez CTT P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ole tekstowe 8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9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1DAE-9308-46BF-A71E-A9E6E38C89F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ole tekstowe 7"/>
          <p:cNvSpPr/>
          <p:nvPr/>
        </p:nvSpPr>
        <p:spPr>
          <a:xfrm>
            <a:off x="2002680" y="171468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E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ole tekstowe 8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ole tekstowe 9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C45D-D6C0-42C7-A7F2-044D0362049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4" name="Prostokąt 6"/>
          <p:cNvSpPr/>
          <p:nvPr/>
        </p:nvSpPr>
        <p:spPr>
          <a:xfrm>
            <a:off x="785880" y="2571840"/>
            <a:ext cx="7429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„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Wiedza jest towarem o warto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ś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ci rynkow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Nieroztropno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ś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ci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ą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 jest nie mie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ć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 tego 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ś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wiadomo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ś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ci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Niegospodarno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ś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ci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ą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 jest rozdawa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ć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 towar za darmo lub po zani</a:t>
            </a:r>
            <a:r>
              <a:rPr b="0" i="1" lang="pl-PL" sz="2000" spc="-1" strike="noStrike">
                <a:solidFill>
                  <a:srgbClr val="000000"/>
                </a:solidFill>
                <a:latin typeface="Monotype Corsiva"/>
              </a:rPr>
              <a:t>ż</a:t>
            </a:r>
            <a:r>
              <a:rPr b="0" i="1" lang="pl-PL" sz="2800" spc="-1" strike="noStrike">
                <a:solidFill>
                  <a:srgbClr val="000000"/>
                </a:solidFill>
                <a:latin typeface="Monotype Corsiva"/>
              </a:rPr>
              <a:t>onej ceni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8"/>
          <p:cNvSpPr/>
          <p:nvPr/>
        </p:nvSpPr>
        <p:spPr>
          <a:xfrm>
            <a:off x="590400" y="1214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Czym jest wied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e tekstowe 9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ole tekstowe 10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9E68-E925-414A-A27D-0754218437A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rostokąt 5"/>
          <p:cNvSpPr/>
          <p:nvPr/>
        </p:nvSpPr>
        <p:spPr>
          <a:xfrm>
            <a:off x="428760" y="1571760"/>
            <a:ext cx="842940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rodki Wspierające Transfer 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ntra Transferu Technologii - 45, w tym 2 spółki z 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kademickie Inkubatory Przedsiębiorczości -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gionalne i Lokalne Fundusze Pożyczkowe -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undusze kapitału zalążkowego - 6, w tym 2 spółki z 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kubatory Przedsiębiorczości -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kubatory Technologiczne -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rki Przemysłowo - Technologiczne - 23, w tym 6 spółek z 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ywatne firmy zajmujące się transferem technolog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ntrum Komercjalizacji i Technologii Sp. z 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ed Fund Sp. z 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88"/>
              </a:spcBef>
              <a:spcAft>
                <a:spcPts val="1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ed Capital Sp. z 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ole tekstowe 6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e tekstowe 7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B357-9B54-4B6A-B935-FB16D650A86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14200" y="999720"/>
            <a:ext cx="830592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7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pl-PL" sz="2700" spc="-1" strike="noStrike">
                <a:solidFill>
                  <a:srgbClr val="000000"/>
                </a:solidFill>
                <a:latin typeface="Monotype Corsiva"/>
              </a:rPr>
              <a:t>Czy istnieje możliwość transformacji wiedzy rozproszonej do postaci innowacyjnego produktu rynkowego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28960" y="2714760"/>
            <a:ext cx="3348000" cy="70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08000" tIns="216000" bIns="216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jekty badawc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479520" y="4013280"/>
            <a:ext cx="2305080" cy="12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odlegające oc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"/>
          <p:cNvSpPr/>
          <p:nvPr/>
        </p:nvSpPr>
        <p:spPr>
          <a:xfrm>
            <a:off x="3433680" y="4302000"/>
            <a:ext cx="2305080" cy="126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noszące znami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plik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6205680" y="4013280"/>
            <a:ext cx="2305080" cy="12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intere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inansowan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c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omercjal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8253000">
            <a:off x="2448720" y="3563640"/>
            <a:ext cx="459000" cy="287280"/>
          </a:xfrm>
          <a:prstGeom prst="rightArrow">
            <a:avLst>
              <a:gd name="adj1" fmla="val 50000"/>
              <a:gd name="adj2" fmla="val 39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flipH="1" rot="13347000">
            <a:off x="6240960" y="3580920"/>
            <a:ext cx="458640" cy="287280"/>
          </a:xfrm>
          <a:prstGeom prst="rightArrow">
            <a:avLst>
              <a:gd name="adj1" fmla="val 50000"/>
              <a:gd name="adj2" fmla="val 399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5400000">
            <a:off x="4355640" y="3630240"/>
            <a:ext cx="458640" cy="287640"/>
          </a:xfrm>
          <a:prstGeom prst="rightArrow">
            <a:avLst>
              <a:gd name="adj1" fmla="val 50000"/>
              <a:gd name="adj2" fmla="val 398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 rot="5400000">
            <a:off x="1290240" y="5146560"/>
            <a:ext cx="576000" cy="252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7"/>
          <p:cNvSpPr/>
          <p:nvPr/>
        </p:nvSpPr>
        <p:spPr>
          <a:xfrm rot="5400000">
            <a:off x="4350960" y="5472000"/>
            <a:ext cx="576000" cy="252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8"/>
          <p:cNvSpPr/>
          <p:nvPr/>
        </p:nvSpPr>
        <p:spPr>
          <a:xfrm rot="5400000">
            <a:off x="7087680" y="5291280"/>
            <a:ext cx="576360" cy="252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876240" y="556092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3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3936960" y="581328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6673680" y="563400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ole tekstowe 19"/>
          <p:cNvSpPr/>
          <p:nvPr/>
        </p:nvSpPr>
        <p:spPr>
          <a:xfrm>
            <a:off x="221040" y="357120"/>
            <a:ext cx="49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ole tekstowe 20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311640" y="7272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Wiedza = to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79640" y="1844640"/>
            <a:ext cx="5076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edza jest towarem o wartości rynk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58920" y="320976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y wspiera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apitałowo i preferencyjnie transfer (instytucje transferu) technologi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651640" y="3141720"/>
            <a:ext cx="29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y wspierać transformację wiedzy podstawowej i stosowanej do postaci produktu rynkowe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84360" y="5049720"/>
            <a:ext cx="3671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lgi podatkow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apitał na innowac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egislacyjne podstawy dla instytucji transferu technolog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040360" y="4911840"/>
            <a:ext cx="395928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miana modelu kariery naukowej w obszarach nauk zdolnych generować innowacj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miana kryteriów oceny parametrycznej jednostek naukowych zdolnych generować innowac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na transformację wiedz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na ochronę wartości intelektualn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 rot="18598800">
            <a:off x="2539080" y="2869560"/>
            <a:ext cx="574560" cy="252360"/>
          </a:xfrm>
          <a:prstGeom prst="leftArrow">
            <a:avLst>
              <a:gd name="adj1" fmla="val 50000"/>
              <a:gd name="adj2" fmla="val 569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 flipH="1" rot="3001200">
            <a:off x="5922720" y="2833920"/>
            <a:ext cx="574560" cy="252720"/>
          </a:xfrm>
          <a:prstGeom prst="leftArrow">
            <a:avLst>
              <a:gd name="adj1" fmla="val 50000"/>
              <a:gd name="adj2" fmla="val 568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0"/>
          <p:cNvSpPr txBox="1"/>
          <p:nvPr/>
        </p:nvSpPr>
        <p:spPr>
          <a:xfrm>
            <a:off x="6048360" y="3284640"/>
            <a:ext cx="161928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2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103" name="WordArt 19"/>
          <p:cNvSpPr txBox="1"/>
          <p:nvPr/>
        </p:nvSpPr>
        <p:spPr>
          <a:xfrm>
            <a:off x="900000" y="3357720"/>
            <a:ext cx="1619280" cy="22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1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sp>
        <p:nvSpPr>
          <p:cNvPr id="104" name="WordArt 21"/>
          <p:cNvSpPr txBox="1"/>
          <p:nvPr/>
        </p:nvSpPr>
        <p:spPr>
          <a:xfrm>
            <a:off x="3708360" y="2816280"/>
            <a:ext cx="15112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2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  <p:pic>
        <p:nvPicPr>
          <p:cNvPr id="105" name="Picture 23" descr="j0254500"/>
          <p:cNvPicPr/>
          <p:nvPr/>
        </p:nvPicPr>
        <p:blipFill>
          <a:blip r:embed="rId2"/>
          <a:stretch/>
        </p:blipFill>
        <p:spPr>
          <a:xfrm>
            <a:off x="4091040" y="2944800"/>
            <a:ext cx="961920" cy="968400"/>
          </a:xfrm>
          <a:prstGeom prst="rect">
            <a:avLst/>
          </a:prstGeom>
          <a:ln w="0">
            <a:noFill/>
          </a:ln>
        </p:spPr>
      </p:pic>
      <p:sp>
        <p:nvSpPr>
          <p:cNvPr id="106" name="Oval 26"/>
          <p:cNvSpPr/>
          <p:nvPr/>
        </p:nvSpPr>
        <p:spPr>
          <a:xfrm>
            <a:off x="5616720" y="3068640"/>
            <a:ext cx="3203280" cy="1765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7"/>
          <p:cNvSpPr/>
          <p:nvPr/>
        </p:nvSpPr>
        <p:spPr>
          <a:xfrm>
            <a:off x="1584360" y="4545000"/>
            <a:ext cx="216000" cy="3240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8"/>
          <p:cNvSpPr/>
          <p:nvPr/>
        </p:nvSpPr>
        <p:spPr>
          <a:xfrm>
            <a:off x="6985080" y="4545000"/>
            <a:ext cx="216000" cy="3240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759280" y="332100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ierać transformację wiedzy podstaw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stosowanej do postaci produktu ryn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8F70-F0AA-4ADF-A059-B22E18AAC0C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upa 30"/>
          <p:cNvGrpSpPr/>
          <p:nvPr/>
        </p:nvGrpSpPr>
        <p:grpSpPr>
          <a:xfrm>
            <a:off x="357120" y="1643040"/>
            <a:ext cx="8529840" cy="4178520"/>
            <a:chOff x="357120" y="1643040"/>
            <a:chExt cx="8529840" cy="4178520"/>
          </a:xfrm>
        </p:grpSpPr>
        <p:sp>
          <p:nvSpPr>
            <p:cNvPr id="113" name="AutoShape 22"/>
            <p:cNvSpPr/>
            <p:nvPr/>
          </p:nvSpPr>
          <p:spPr>
            <a:xfrm flipH="1" rot="16125000">
              <a:off x="2876400" y="279000"/>
              <a:ext cx="2384280" cy="6097680"/>
            </a:xfrm>
            <a:prstGeom prst="parallelogram">
              <a:avLst>
                <a:gd name="adj" fmla="val 653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"/>
            <p:cNvSpPr/>
            <p:nvPr/>
          </p:nvSpPr>
          <p:spPr>
            <a:xfrm>
              <a:off x="1037880" y="1643040"/>
              <a:ext cx="0" cy="37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>
              <a:off x="1036440" y="5424480"/>
              <a:ext cx="666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 rot="16200000">
              <a:off x="-1121400" y="3264120"/>
              <a:ext cx="36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Stan wiedzy, nauki i technolog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477880" y="54532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zi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4891320" y="5424480"/>
              <a:ext cx="14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za 5-10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1"/>
            <p:cNvSpPr/>
            <p:nvPr/>
          </p:nvSpPr>
          <p:spPr>
            <a:xfrm>
              <a:off x="7013880" y="5418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[czas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5"/>
            <p:cNvSpPr/>
            <p:nvPr/>
          </p:nvSpPr>
          <p:spPr>
            <a:xfrm flipV="1">
              <a:off x="2911320" y="3263760"/>
              <a:ext cx="2843280" cy="792000"/>
            </a:xfrm>
            <a:prstGeom prst="rtTriangle">
              <a:avLst/>
            </a:prstGeom>
            <a:solidFill>
              <a:srgbClr val="2626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7"/>
            <p:cNvSpPr/>
            <p:nvPr/>
          </p:nvSpPr>
          <p:spPr>
            <a:xfrm flipH="1">
              <a:off x="2888280" y="3263760"/>
              <a:ext cx="2825640" cy="792000"/>
            </a:xfrm>
            <a:prstGeom prst="rtTriangle">
              <a:avLst/>
            </a:prstGeom>
            <a:solidFill>
              <a:srgbClr val="a3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2916000" y="4056120"/>
              <a:ext cx="2798640" cy="1368360"/>
            </a:xfrm>
            <a:prstGeom prst="rect">
              <a:avLst/>
            </a:prstGeom>
            <a:solidFill>
              <a:srgbClr val="a3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2909880" y="3263760"/>
              <a:ext cx="28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>
              <a:off x="6007320" y="5064120"/>
              <a:ext cx="165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6007320" y="4416480"/>
              <a:ext cx="1871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zemysło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apa Drogowa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>
              <a:off x="7086960" y="2903400"/>
              <a:ext cx="2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>
              <a:off x="7086960" y="2076120"/>
              <a:ext cx="2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7375680" y="185868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niki bada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5"/>
            <p:cNvSpPr/>
            <p:nvPr/>
          </p:nvSpPr>
          <p:spPr>
            <a:xfrm>
              <a:off x="7375680" y="2724120"/>
              <a:ext cx="15112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astosowanie w przemyś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575320" y="2471760"/>
              <a:ext cx="126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otencjał aplikacyj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7"/>
            <p:cNvSpPr/>
            <p:nvPr/>
          </p:nvSpPr>
          <p:spPr>
            <a:xfrm>
              <a:off x="2909880" y="326376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</a:rPr>
                <a:t>Trans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Arial"/>
                </a:rPr>
                <a:t>know-h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8"/>
            <p:cNvSpPr/>
            <p:nvPr/>
          </p:nvSpPr>
          <p:spPr>
            <a:xfrm>
              <a:off x="3378240" y="4019400"/>
              <a:ext cx="19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CT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spółpraca przemysł-nau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1616040" y="3502080"/>
              <a:ext cx="129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Oczekiwania ryn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0"/>
            <p:cNvSpPr/>
            <p:nvPr/>
          </p:nvSpPr>
          <p:spPr>
            <a:xfrm>
              <a:off x="1149120" y="4583160"/>
              <a:ext cx="186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dania przedwdrożeni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 flipV="1">
              <a:off x="2909880" y="3263760"/>
              <a:ext cx="0" cy="21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ole tekstowe 30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31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9C08-5772-4F21-9A37-8B722F67BD6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8"/>
          <p:cNvGrpSpPr/>
          <p:nvPr/>
        </p:nvGrpSpPr>
        <p:grpSpPr>
          <a:xfrm>
            <a:off x="279360" y="1608120"/>
            <a:ext cx="7640640" cy="4276800"/>
            <a:chOff x="279360" y="1608120"/>
            <a:chExt cx="7640640" cy="4276800"/>
          </a:xfrm>
        </p:grpSpPr>
        <p:sp>
          <p:nvSpPr>
            <p:cNvPr id="141" name="Line 4"/>
            <p:cNvSpPr/>
            <p:nvPr/>
          </p:nvSpPr>
          <p:spPr>
            <a:xfrm>
              <a:off x="1079640" y="1700280"/>
              <a:ext cx="0" cy="37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1077840" y="5481720"/>
              <a:ext cx="666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>
              <a:off x="1079640" y="5408640"/>
              <a:ext cx="1836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1042920" y="5084640"/>
              <a:ext cx="29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1042920" y="2189160"/>
              <a:ext cx="594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2"/>
            <p:cNvSpPr/>
            <p:nvPr/>
          </p:nvSpPr>
          <p:spPr>
            <a:xfrm>
              <a:off x="538200" y="20019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3"/>
            <p:cNvSpPr/>
            <p:nvPr/>
          </p:nvSpPr>
          <p:spPr>
            <a:xfrm>
              <a:off x="527040" y="4905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4"/>
            <p:cNvSpPr/>
            <p:nvPr/>
          </p:nvSpPr>
          <p:spPr>
            <a:xfrm>
              <a:off x="393840" y="52164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0,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5"/>
            <p:cNvSpPr/>
            <p:nvPr/>
          </p:nvSpPr>
          <p:spPr>
            <a:xfrm>
              <a:off x="279360" y="16081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[ml ₤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6"/>
            <p:cNvSpPr/>
            <p:nvPr/>
          </p:nvSpPr>
          <p:spPr>
            <a:xfrm>
              <a:off x="646200" y="55166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19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7"/>
            <p:cNvSpPr/>
            <p:nvPr/>
          </p:nvSpPr>
          <p:spPr>
            <a:xfrm>
              <a:off x="2519280" y="5516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8"/>
            <p:cNvSpPr/>
            <p:nvPr/>
          </p:nvSpPr>
          <p:spPr>
            <a:xfrm>
              <a:off x="3995640" y="551016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9"/>
            <p:cNvSpPr/>
            <p:nvPr/>
          </p:nvSpPr>
          <p:spPr>
            <a:xfrm>
              <a:off x="6084720" y="548172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0"/>
            <p:cNvSpPr/>
            <p:nvPr/>
          </p:nvSpPr>
          <p:spPr>
            <a:xfrm>
              <a:off x="7054920" y="54752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[lata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2411280" y="2168640"/>
              <a:ext cx="4716720" cy="324648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rostokąt 21"/>
          <p:cNvSpPr/>
          <p:nvPr/>
        </p:nvSpPr>
        <p:spPr>
          <a:xfrm>
            <a:off x="2000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kład współprac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SIS INNOVATION - Uniwersytet w Oxford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22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ole tekstowe 23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C901-0BD3-451E-AC1F-58D0ECEEF52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business_pp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5"/>
          <p:cNvSpPr/>
          <p:nvPr/>
        </p:nvSpPr>
        <p:spPr>
          <a:xfrm>
            <a:off x="221400" y="35712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um Transferu Technologii PŁ Sp.z o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7"/>
          <p:cNvSpPr/>
          <p:nvPr/>
        </p:nvSpPr>
        <p:spPr>
          <a:xfrm>
            <a:off x="428760" y="24289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iznes istnieje dla pomnażania pieniędzy udziałowców -  w przypadku Centrów Transferu Technologii poprzez komercjalizację 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sją Politechniki Łódzkiej jest kształcenie i prowadzenie bada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czelnie i instytucje biznesowe różnią się pod każdym względem - uniwersytet nie powinien być podobny do spółki biznesowej, spółka biznesowa nie może być podobna do uniwersyte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ole tekstowe 8"/>
          <p:cNvSpPr/>
          <p:nvPr/>
        </p:nvSpPr>
        <p:spPr>
          <a:xfrm>
            <a:off x="525960" y="1357200"/>
            <a:ext cx="51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Arial"/>
              </a:rPr>
              <a:t>Przewaga CTT Sp.z o.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ole tekstowe 6"/>
          <p:cNvSpPr/>
          <p:nvPr/>
        </p:nvSpPr>
        <p:spPr>
          <a:xfrm>
            <a:off x="7185600" y="62024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f.Piotr K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7:07:49Z</dcterms:created>
  <dc:creator>lukasz-kaluza</dc:creator>
  <dc:description/>
  <dc:language>en-US</dc:language>
  <cp:lastModifiedBy>Windows User</cp:lastModifiedBy>
  <dcterms:modified xsi:type="dcterms:W3CDTF">2009-10-23T10:17:06Z</dcterms:modified>
  <cp:revision>79</cp:revision>
  <dc:subject/>
  <dc:title>Plan prezentacji</dc:title>
</cp:coreProperties>
</file>